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B26-5AD7-47F7-87E2-0F1872491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AFEB-3BEF-4E14-9CF1-A18BFEB78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F12-9F4A-4BCB-A5FA-FD6C093BB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94C-F7AE-423C-8DE7-82FFD6A6B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628-77EC-42EE-A297-8E9245BCF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4528-AD9D-4F9D-9C99-8DCE9CAE3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475-E179-428C-82DA-95D153EC2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6A7-5F21-465D-A0A4-11A3715A2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159-1365-41AD-8EAE-62854D234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E1C-0AB8-43F6-BA06-7ABB54CEA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E0E8-565D-4BF4-9959-36486A0AF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C5B-2083-45A6-B3E8-E991A0289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7A45-2C69-4A4A-9A79-BBCABFE16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2DB8-0815-46BE-A097-FCE8C152D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882-32D8-4680-94B3-6588DED25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A251-F850-446B-8011-AD6267387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857A-5E42-4AFE-85D0-CF8F0B01A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2BC-66E7-44AF-A77C-FD1CB8A06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0A9-900A-43B3-8304-68DFBE135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607D-EC1E-4A70-81BA-0E03F4673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3D8-B2B3-48A0-AEC4-86E7F00B7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D324-5118-4D96-B944-07C3E1FC6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157-6E65-4792-8C8E-6CCC68EE8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813-CA37-4AD6-B48E-512672041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AC7-CD1E-4ABF-A6B6-302BD7399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F19-C398-4849-A834-6EB417DFF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2AF-A415-4034-B665-25CCCBB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686-8B4D-47A1-8487-1CC3475F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C59-1ADD-4A8E-B0E4-EE4AEAEF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C47-1DD3-43A5-AFF5-E0461020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D8B-CB24-4F17-B9BB-A4396F30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6713-2266-4D17-A32F-04372EA7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546-C7A4-4AB3-A027-0F4A1E6B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855-8B2D-4603-BE83-C914234C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DEF0-B032-48AE-9764-52031953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285-15C4-4105-B44B-19F899E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E9E-9456-4CD6-9F7A-B308102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21A-68CC-4675-9E93-FCC2457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EC01-B9B4-403F-8092-BBCC5DF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80CB-3F1A-4340-8BD6-ECD2076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FA7F-BE79-4ADE-9579-75627F4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D39A-36E4-401E-96A3-BB7E029D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27D-5F7B-49ED-A292-254CE521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F67C-137D-48C9-8BBA-CB7B28A5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FC7C-1750-4953-A553-32AED55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2B2D-A520-4A9E-8F2E-79C2BB0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642E-8FD8-4EDC-846A-DB6A22E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6917-EC19-4F1F-82DB-1FFAEBF4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DAE-0E7E-46EE-A7C7-BE7CACB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09CA-8B1E-449C-9FEF-505B2DE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3A34-B020-448D-992E-55EFE88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3890-76B7-422E-B9A9-90567F5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E516-D049-4F67-8855-51B3DD6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B898-7985-4830-949E-7023AF82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9EF9-2310-4CF0-9FFA-D118E6A0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C642-02F6-4745-AB1F-0BA33E2D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A00C-B0EC-41DA-8E08-A07F1EBC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F4DB-6E89-48A5-B6B6-7345462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B05A-5F91-48D2-92BD-1736820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29C-7F38-456A-B960-0B8677F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D4A7-0A92-4B2B-B2AE-C35798E3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524F-E59E-4852-846E-410EF9AD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A664-3218-4AD7-B0D7-AF6D9B9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B805-AD51-48E7-9FEB-890C7AC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B153-7241-47A7-963D-6D454C9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D7AE-F556-4251-90BD-6F892F1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5C39-A892-4ABB-B868-FEDB126F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4327-27F9-478F-A22D-BCFC916C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75E5-BFE1-48B6-89C1-89245330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1A1BF-1A7A-4A0E-A7A2-1EE7CC85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91D-6394-47E4-9B67-993E2183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2CE8-EF02-4D8A-9A02-40D9A082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0C32-8567-4A64-A1C4-9D0F66B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C7AA-235E-49FB-8373-8608CCE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1359-FF66-45C8-B334-919E1F5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E668-490D-45F2-B83D-F66FE68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9FA65-69E4-4FA2-A662-AB28373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7F1A-D1BA-449C-A25A-711451C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837F-161B-4E76-A406-BDE0E16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5CF9-9F06-48A4-8D45-CF02A401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37F5-3DA7-45BD-8474-EB7FBD8C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737-039D-4E8C-8E84-763A0DC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364B-222A-4629-96F2-A46A6460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E0B7-18BF-4ACB-88E6-D4C64384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247D-172B-46B6-9910-3A3AC63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B1A2-0C9D-47A0-8AC4-D240D3CB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28FDC-04BD-474E-9FA6-367F6E7A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C9F3-F4ED-4D9C-B1F9-7E86044A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4C339-A86C-4E70-8DC4-0A48B7C3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BAA5-D19D-405C-869E-6C752AA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1264-97E3-486D-99FA-0C6671E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9D52-3ACD-495F-A904-33ECC95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CE0-2F48-43B3-BD4E-8A67AE3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43DD-C96F-46E5-8F2D-BBBBC1BA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B217-98AA-421C-9FA6-86B96F80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8F65E-C1DF-4E71-80BC-8D38B8A4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FCC3-6C1B-40EA-B201-49FDD93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1260-91C2-43AB-9504-C932321F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19E3-E5F7-42AA-B2AF-BF3AE29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D153A-F626-4A75-B937-17751BB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F9CC-9110-4425-8419-10421A0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6538-6F84-4A3C-8E10-7BC0050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0120-5C6B-4DD5-9FC6-B5C35B5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625-0874-4C49-B525-5B60FD6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BDF8-0D59-4AB1-AF34-37D6495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090B-F5AA-4A31-8C10-B966535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28613-A000-4190-B955-DF96B41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4B79-2747-4C93-AB33-60BF5CD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8054-6F70-458C-AAFF-FFF4CD5D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D74-FEE1-4231-876B-48647F7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A89-3467-4657-854D-982D27AD8D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535E-D8B6-4972-B46F-840F1C1829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F94-76B8-4C9B-ADCC-DF556ABC96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24D0-2013-4A20-949A-404D27517B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5914-5AED-450A-B093-C0A6B96CB6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2643-7763-4C25-A0F2-9990522E9D7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B74-A8A3-4C1B-8411-942094B87C7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785520"/>
            <a:ext cx="7407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Data Structures and Algorithms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99760" y="2857680"/>
            <a:ext cx="61246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Lecture 12 (Queu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Instructor:   Quratula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Date:  22 October,  200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0e04"/>
                </a:solidFill>
                <a:latin typeface="Gill Sans MT"/>
              </a:rPr>
              <a:t>Faculty of Computer Science, I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72920"/>
            <a:ext cx="77486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return store[front++]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21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that allows G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26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// …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Object data = store[front];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get front dat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set pointer to null, so it can be garbage-collected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later (when caller code doesn’t let’s go of pointer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8dc765"/>
                </a:solidFill>
                <a:latin typeface="Courier New"/>
              </a:rPr>
              <a:t>store[front] = nul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ront++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eturn data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45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pose many enqueue operations followed by many dequeue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ult:  rear approaches MAX but the queue is not really 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ution:  Circular Arr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 rear (and front) to “wrap around” the array (if rear = MAX-1, incrementing rear means resetting it to 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ernative ways of visualiz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yclic array (length 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8001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pty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urn (queue_of_front == queue_of_rea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ov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empty(queu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underflow); exi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front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front 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front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(queue_items[queue_of_front]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ert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(queue_of_rear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rear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rear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rear ==queue_of_fro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queue overflow”);  (queue_of_rear)--; exit; 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items[queue_of_rear]=x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,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s the array ful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answer: when (rear == fron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blem:  this is the same condition as emp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Reserve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( (rear+1) % MAX == front)   (one free slot lef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ty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( rear == front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“wastes”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ernative: have a boolean field called has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when ( hasElements &amp;&amp; (rear == front)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not really b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Elements takes up extra space to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so, need to take care of hasElements in enqueue and deque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(rear + 1) % MAX != front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rear] = 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r = (rear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94920"/>
            <a:ext cx="7964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Object data = store[front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front] = nu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= (front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data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47920" y="1219320"/>
            <a:ext cx="7238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eue is a first-in-first-out (FIFO) sequential data structure in which elements are added (enqueued) at one end (the back) and elements are removed (dequeued) at the other end (the front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 good example is a queue. We encounter queues all the time in every day lif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at makes a queue a queue? What is the essence of queueness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40384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0481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3623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6002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160020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13372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89548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the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 q = new ArrayQue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he following should be enclosed in a try-catch stm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5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2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3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 result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nked List Impleme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ObjectNod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29920" y="1599840"/>
            <a:ext cx="80802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bjectNod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dat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Node nex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Data( Object o ) { data = o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getData() { return data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Next( ObjectNode p ) { next = p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Node getNext() { return nex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6781680" y="27432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0"/>
          <p:cNvSpPr/>
          <p:nvPr/>
        </p:nvSpPr>
        <p:spPr>
          <a:xfrm flipV="1">
            <a:off x="7848720" y="3047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7391520" y="2438280"/>
            <a:ext cx="1523880" cy="5335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2"/>
          <p:cNvSpPr/>
          <p:nvPr/>
        </p:nvSpPr>
        <p:spPr>
          <a:xfrm>
            <a:off x="8229600" y="2438280"/>
            <a:ext cx="0" cy="533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8214120" y="2452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4"/>
          <p:cNvSpPr/>
          <p:nvPr/>
        </p:nvSpPr>
        <p:spPr>
          <a:xfrm>
            <a:off x="7696080" y="3657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5"/>
          <p:cNvSpPr/>
          <p:nvPr/>
        </p:nvSpPr>
        <p:spPr>
          <a:xfrm flipV="1">
            <a:off x="769608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6705720" y="30481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7"/>
          <p:cNvSpPr/>
          <p:nvPr/>
        </p:nvSpPr>
        <p:spPr>
          <a:xfrm flipV="1">
            <a:off x="67057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8"/>
          <p:cNvSpPr/>
          <p:nvPr/>
        </p:nvSpPr>
        <p:spPr>
          <a:xfrm>
            <a:off x="7315200" y="1295280"/>
            <a:ext cx="990720" cy="45720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9"/>
          <p:cNvSpPr/>
          <p:nvPr/>
        </p:nvSpPr>
        <p:spPr>
          <a:xfrm flipV="1">
            <a:off x="7848720" y="1904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1295280" y="312408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0"/>
          <p:cNvSpPr/>
          <p:nvPr/>
        </p:nvSpPr>
        <p:spPr>
          <a:xfrm flipV="1">
            <a:off x="1295280" y="31237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1371600" y="2743200"/>
            <a:ext cx="2057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215720" y="57913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 flipV="1">
            <a:off x="2133720" y="5257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inkedQueu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LinkedQueue implements Que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fron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rear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LinkedQueue(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nt = rear = nul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ther Queue metho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 Concept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705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Queue application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 ser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int job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k dri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disk input/output reques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heduler (e.g., in an operating syste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ocesses awaiting a slice of machine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ration on Queue using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-in, First-out (FIFO)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sert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sert element at r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lete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move &amp; return front el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heck if the queue has no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mple 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ling requests and reserv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Queu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Object array and two inte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ron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a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FREE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073240" y="417672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26067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1399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67344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42069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47401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67215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72547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030280" y="41911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92096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2530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13992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3673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301840" y="448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911320" y="4481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3444840" y="448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3978360" y="4481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1463760" y="3567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371240" y="320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146480" y="347652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115160" y="3124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85440" y="351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252320" y="34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1828800" y="3886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4419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ray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store[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front, rear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 final int MAX = 10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ArrayQueue(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e = new Object[MAX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rear = 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eck for Empty and Enqueu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17240" y="1335240"/>
            <a:ext cx="8497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boolean empty(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queue is empty if first ele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s the same as the first free el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( front == rear 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put data in first free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move rear index to next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rear &lt; MAX 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ore[rear++] = o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397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00:41Z</dcterms:created>
  <dc:creator>Admin</dc:creator>
  <dc:description/>
  <dc:language>en-US</dc:language>
  <cp:lastModifiedBy>qrajput</cp:lastModifiedBy>
  <dcterms:modified xsi:type="dcterms:W3CDTF">2009-10-22T11:09:44Z</dcterms:modified>
  <cp:revision>10</cp:revision>
  <dc:subject/>
  <dc:title>Queues</dc:title>
</cp:coreProperties>
</file>